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360-4F81-4DA8-B355-015F90E7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998-86CB-4EAF-B40D-C9491630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1DC-7C98-435D-98D9-095D2807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602-F26A-4452-8A79-2A2127AF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2F8-FF29-4C1D-8B39-A7A225E6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3D32-64BD-436A-A91D-748A297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24DF-6427-47AD-ABD3-3EAC644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16E-BA99-425A-8179-7E28BA0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EDA-F2BB-4DEA-B16A-57848DA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1C59-BE04-4990-BA64-904E3419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C538-544A-4B36-96E2-3622B76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5DE-CD34-4505-8C90-84FC80E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B32-1250-4834-97C3-E402073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E5E0-3B16-4EE2-B354-E3502E7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6EDC-4EEA-491D-99C9-57FB5BD7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B509-B1A8-41E8-B004-6DA5300B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794E-C660-4C55-8BBD-1E2CBACD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2EF-7A1C-4DFD-B92A-DC29E21C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CF2-2C75-425C-85F3-ACF81CE7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7EF-8B50-45FE-ADCA-EB37F786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133-0372-4567-9A36-0F7C0CE3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F70-DF2C-4035-9A1E-100DDE1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F11-DB38-4A11-BE94-6DBD447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E55-1E43-48F6-B3A2-D521541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4E4-EE6F-4788-AD9A-5BE29CF91D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6CC-52C8-4AA2-95F8-0041197AEB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corder.pima.gov/voter_forms_loc.aspx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t Out and Vote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ter Registration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ou can register in Pima County if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live within Pima County at least 29 days prior to the General Elec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are a United States Citize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are 18 or older, or will be 18 by the next General Elec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have not been convicted of a felony or treason, or if you have, your rights have been restore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have not been adjudicated an incapacitated pers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ete a registration form to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ster to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your na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your addr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your political par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re can I find a registration for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link provides locations in Pima County where you can get a registration form in per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ecorder.pima.gov/voter_forms_loc.asp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 register onli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can use EZ Voter if you have met the following criter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gistrant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r driver's license or identification card must have been issued on or after October 1, 1996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ress changes must have been made through the Arizona Department of Motor Vehicle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s://servicearizona.com/webapp/evoter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’s really that easy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get out there and exercise your right to vot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0:01:42Z</dcterms:created>
  <dc:creator>ASD</dc:creator>
  <dc:description/>
  <dc:language>en-US</dc:language>
  <cp:lastModifiedBy>Tech</cp:lastModifiedBy>
  <dcterms:modified xsi:type="dcterms:W3CDTF">2010-06-03T20:25:20Z</dcterms:modified>
  <cp:revision>3</cp:revision>
  <dc:subject/>
  <dc:title>Get Out and Vote!</dc:title>
</cp:coreProperties>
</file>